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breeze.wav" ContentType="audio/x-wav"/>
  <Override PartName="/ppt/media/image2.png" ContentType="image/png"/>
  <Override PartName="/ppt/media/image24.wmf" ContentType="image/x-wmf"/>
  <Override PartName="/ppt/media/image4.gif" ContentType="image/gif"/>
  <Override PartName="/ppt/media/image23.wmf" ContentType="image/x-wmf"/>
  <Override PartName="/ppt/media/image22.wmf" ContentType="image/x-wmf"/>
  <Override PartName="/ppt/media/image19.wmf" ContentType="image/x-wmf"/>
  <Override PartName="/ppt/media/image21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E27-E1BB-44DE-A1BF-F356F2E8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3A7-06F2-443C-B21C-CF4CBA4C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8B6-BB9A-4993-A69D-6CEA19B9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577-ED51-4191-9E46-DD82466F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7D7F-011C-4168-A394-EFE65C80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AB8C-FDFC-4884-A01E-887D6C83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716B-9949-42FF-ACF5-FC7C8FF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13A1-6ECB-4184-A1BC-713173B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AE0A-7035-405F-AE03-B0EC7C7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C011-7FF6-44EF-BA95-F80C0ACD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884-DB7E-48B7-9858-B22E0A5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429-016F-4432-8200-8FFCCC9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038-2832-4F6B-BF6C-45649EC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5D0A-DB8E-42EE-BDF3-678F2A3C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4EE2-33FE-4AD3-A71C-7A06E4B6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4690-D128-447D-830B-61BAAF62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378-685D-4709-B0B7-1D9B0639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301-5C05-41E5-BE2D-14AD52F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E7B-BE08-4832-806D-3B185B5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EB2-A3E8-4BB8-8038-C3DA834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FB1-15B2-4726-90CC-A504794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493-9598-4CE8-8D5F-FF7E9BA4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A61-6E9B-4C02-8FEF-33E35DA6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CF3-C136-47EF-AC99-AE88108D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921F-BA2D-43A0-9447-3CFF5CEA4C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7FA7-C458-4D7E-94BA-72867DDCEB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eff1"/>
                </a:solidFill>
                <a:latin typeface="Arial Black"/>
              </a:rPr>
              <a:t>Pearl and Wagner:  Two Good Friends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Second Grade Reading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unique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Only one; one of a kind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31316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traption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that is put together in a very odd way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4322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foolproof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 simple and safe that anyone can us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3033720" cy="334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daydream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When you are awake but you are thinking of pleasant things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57140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066760" cy="28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proje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planned and then don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652840" cy="26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crap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tiny piece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647800" cy="305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breeze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Vocabulary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robot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wad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trash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robo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A machine that is run by a computer.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773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52880" y="2133720"/>
            <a:ext cx="17859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42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wad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small, soft ball or chunk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40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trash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nything of no use or that is worn ou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305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858000" y="3124080"/>
            <a:ext cx="198108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" y="3048120"/>
            <a:ext cx="2147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809880" y="3352680"/>
            <a:ext cx="1562400" cy="180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04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42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7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electricity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kind of energy that makes light and hea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582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797280" y="2527200"/>
            <a:ext cx="1549440" cy="1803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2550960"/>
            <a:ext cx="2590920" cy="255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09480" y="3657600"/>
            <a:ext cx="2286000" cy="168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59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Amazing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stru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idekick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unique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traption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foolproof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daydream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proje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crap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stru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To build or put togeth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0773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188928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086600" y="3581280"/>
            <a:ext cx="112716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09480" y="3276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7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idekick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good friend or a partn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000680" y="385776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" y="2832120"/>
            <a:ext cx="2743200" cy="22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58000" y="2209680"/>
            <a:ext cx="1965240" cy="24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42:31Z</dcterms:created>
  <dc:creator>dyera</dc:creator>
  <dc:description/>
  <cp:keywords/>
  <dc:language>en-US</dc:language>
  <cp:lastModifiedBy>dyera</cp:lastModifiedBy>
  <dcterms:modified xsi:type="dcterms:W3CDTF">2007-11-05T18:39:33Z</dcterms:modified>
  <cp:revision>3</cp:revision>
  <dc:subject/>
  <dc:title>Pearl and Wagner:  Two Good Frie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